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wmf" ContentType="image/x-wmf"/>
  <Override PartName="/ppt/media/image1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C647-40C8-4370-B8ED-D61D4C0450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A7C7-1B09-4B11-ABCE-62830B1AE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75F-51EB-4FDB-AE45-CBD24148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694A-702B-4896-ADAC-4D37DEAB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FD712-9D56-470A-897A-8FA92971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6ADAC-484B-4DBD-BC01-E2A86795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8B5A7-7EE7-4026-B333-3C59BA6C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FCBCE-51B8-4BC0-A6BB-21C4C99A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E8BAD-E427-404F-BBD8-DE644F18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927B2-B03B-424B-9C2C-1B497996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74CD7-0453-4AD6-A417-C1BA15BA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AE948-B310-4776-863C-AF524C8E5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0F910-492D-455A-9EB5-234BB2CB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17919-DF91-4B5B-8EB3-50BFB485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ECE-5954-4EEA-87B4-44196B1C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C2573-96B6-4717-A56F-5CEC565C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23E8D-F62B-44A5-B61A-45B2D58E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194C7-C265-4F36-8B67-4456B50D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5FBBD-E946-4504-A7E8-A8941FEA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2E218-382F-4755-A24A-A430AA13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A5247-671D-4306-8C93-D2095EC8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733A7-F475-40E6-B9D7-186302CB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D43189-3B5B-4ADC-B6A3-6BBAD4A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29D04-1223-42EB-BAB1-4D4368A2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74966-F1DC-42D6-A50E-1A34A4A3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860B-CABA-4737-847C-4E22C904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A782B-6331-4331-A8E9-8113CD89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E2F10-79E8-450E-9375-9522CD2E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182FD0-DD20-46EA-8E07-A87404F5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4839D-D011-4771-96A5-CCAAAA35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84595-4D6C-4CC6-8A4C-D339F5BC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BD3C7-5902-4E31-A17F-9D8E3E5E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C2F41-F38F-4281-9E72-D8D7540C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64B4F-0B38-44DB-952D-1E53F0F0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F0A76-83EC-4A16-A293-5599CF16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2400A-A002-436F-967A-05B2B659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8B75-C1C2-4FC8-B047-21BD9D92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9C461-D893-42F7-B025-436EDE73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F37F3-D115-4805-8DE4-B8593242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7FC89-CC5D-4F5B-8F92-AE25CA0BE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A2E3C-D1E0-4A19-A324-29FB88DA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671285-D279-4BD5-9918-70A7B99E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1FCD4-1D8F-4399-BDF6-172FF844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02C46-569F-4C5A-9DA6-B2DBF7D3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D973B-B290-42FE-A9AF-9D8CB519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9D289-D0B8-4C9F-A69F-6BCFB21D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BF720-CA3D-4CEA-A8C0-40565A34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24E6-22D8-4DC0-B546-AD9CC89E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E34C1-3D5A-4D94-B940-5BD4D3B8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A97F0-4AE4-4817-8BF9-914E5F3E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491E6-8146-4198-94D9-E26517CC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872DB-BC0F-4C2E-9117-B4E1E006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D60B6-AD02-44B2-8166-7F0BAA36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AD24-150D-4629-A6FE-8914B349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7160-2F78-4EA2-A57E-D9CC4076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9402-861F-45A3-B411-7F124C1B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AD28-709E-4304-9E7C-BF9961CB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DB0C-E64E-47FA-B645-A1327031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552-9653-4134-AA52-27FAD03A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47FC-FB00-48F6-8F87-D8E4A74E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1C5B-3396-41F1-9BF1-46E562BA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3EE8-4E31-4F56-A09F-431C91FB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412B-1C5D-466F-8439-F4D2B3A1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7B03-067D-47DE-BEEF-EBEA7CA3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2F9F-1EBA-4A5B-9188-7C0226B3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2A4EE-4059-4B97-B705-B4242F89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A4BCC-064D-478C-8A09-590FAE4C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992FC-867B-45FF-AE1D-923A8A84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71F6-01C8-43E7-954B-A26BC16B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7B8-5FAB-4F27-967B-6EF4D023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DDC1-1D4D-414A-AE03-E9BEC677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FE6FA-A126-4B0E-98E1-AA821758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5105E-AF40-4C6C-9D27-6314157B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7AB2-B3D4-40FB-A34A-9FAB1A43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8194-AF8D-4D71-B7EA-42EFB905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4CF29-2504-4B3D-A678-ABAD94CA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3A4DF-BD13-4DF8-9CB1-AFB9C78A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A6B82-C50E-44F0-A59F-3F672944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8686-665D-4436-97FD-68B4B2BE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1F348-7F03-498E-8DAB-B5715AC9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01FB-5908-4C98-8934-BD254FA7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2ADB0-F414-4FD8-A2AB-4E96CA12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323E2-1D30-4B39-9BBB-DFD886DE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5F0EE-D276-43FF-9D7F-EEFC2A1C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FBB76-1713-4873-8A18-C03942B4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28E88-2E6B-463B-A715-C9AA7F92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872B8-2738-4B7E-AB9B-AF19D8F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DFB48-8BEB-44D9-9204-6D336F93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E1D2A-E642-49EF-9FCF-32B82B6C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4B3E0-8942-4748-BBDD-21D4CBBB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7ADC1-51CA-4DA9-9997-AC232E9A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FB0-84A5-4F74-B381-172F9C55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99E51-3944-4E0D-8F25-BF47BFA4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D717E-9880-4F16-B870-04B47784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A341F-CFF6-4298-A695-52109094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4EF36-C9C4-494B-867A-319F5EC7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A305E-2AAF-4BAF-82D0-7A7043E9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EA1EA-2328-49DD-AEAC-FDF5C087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3678E-47F3-4B20-A53D-9E8DE29E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935F1-10FC-46B5-BFC7-B27BFE2A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6C865-75F0-42A3-B06B-A4EC87E0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29377-6A45-45CC-ACE4-30592D6B4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78AE-7524-4A8D-83AE-0C6C67CE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5D808-4023-42EB-8F0D-DA7C607F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99F34-AFC4-44A5-A66D-1299AA63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306D3-1400-4631-8EFF-1B8B4B8C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63824-D772-45EF-A2B3-6C44684A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48D1D-51CE-4F4B-B8A2-5BA49315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7665F-6D38-4411-8EDC-A76F0203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52778-7909-491A-8700-02658F74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3AD68-4699-40D5-A617-F9B9E134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87F14-421B-424A-A72B-03FBBE25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8C68B-42C3-473C-AEA0-9E1D254E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6F96-BA6F-4ACE-9E0A-8E1F24B7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77EA1-4A61-44A2-86F3-C16E2784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3D1DB-0422-4BD7-8ED6-A4FEA7BE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9BFA1-4179-430A-BDD7-B3CCE810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156F7-F907-4A8B-8546-A50A2F41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6CD17-6065-4374-977E-1836DDEA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42467-BA8D-4BD9-8082-A22A03E4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9B364-26B9-44D1-B13C-1270C004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659AE-C243-414D-96AB-173D7209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AFECB-5860-4440-A604-1912DB83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A0E6F-EC25-4844-ACC7-5F47E7AB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B6D2-5937-42FB-A7E4-065985F7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ADA36-E939-480D-930C-FC85BAC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063C3-4512-418D-B3E4-DADC039C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84ADC-176D-4750-876C-774ACC7A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E6BA1-80B4-4A44-8E3B-DCEE6FF2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B18F0-5003-4D23-8BD8-CF2C40FC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AB98D-4314-4866-99A1-C31042DF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CF2A9-88D3-44B2-8D7B-C8932B0D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D34D1-975B-4330-8B45-062C233B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A1C2F-1122-4046-9F97-AAD6B39A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E9AB3-03F7-47BB-B07D-8FF27CB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955-4A0A-4FFB-B629-27CC781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924CF-4C78-450B-819B-698DBCF3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33C20-EA5C-4D73-87F3-AF2B35BC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924B4-7049-45A2-8CF9-50548658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D99AE-FCB2-4481-B91A-858BE413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0F030-55CF-400A-BF52-376D7A6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BBF8D-4860-4DA6-8C4C-F58D937F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8A8A2-D7FE-477B-9F2B-F0237DFF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6F611D-FC89-4010-BD4E-EEED7B3B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339DF-CE72-4423-A98B-C2F0FE2A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FB9C0-6E8B-4AC8-94C3-0CFD9D1E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6B0F-AEF4-4001-9608-AC2A276903A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FD5C-A44B-4CB5-95B4-334B48B2E32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2B16-2028-4726-A50A-3529553B94E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51A5-3B6D-4A7B-A0FD-1949CAB2FB5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F4E6-203C-4F56-A11A-A5C4A245EACE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BF1E-B8E2-4313-944A-F2DEFCDE45B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31B4-5948-4C72-B1B7-2D258B6E79B7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1190-D344-412C-B413-02EE0A84D43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B916-FE65-4149-85C0-4F6BD7F4A5FD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5E9F-C580-4638-8688-3405F677E2C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5297-5B99-4C92-B045-C8B4490D517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23CB-37FD-414E-80F1-2190320C4BC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3ACE-3568-4224-A38C-9EEEDECBF55F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FD8A-8249-482B-A336-0081122B8E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7F74-4A56-48FD-8062-10B1B18F7B5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8776-2052-499D-A98A-2F755E451C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FB65-EF81-40DE-B4F3-71C03D1B4D6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12CC-89A2-452A-873E-D26E9AC766F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6821-F47B-43F0-89AA-DA6820820315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DA8E-AAD2-41C8-8565-690BAA54910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4789-9876-447F-8ED3-2317EC8DEF68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6B00-6FF6-438D-B808-0F8B5A6FD3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DDE5-173C-4A7C-8860-B5FA72E3E1A1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AC98-F885-41E0-8CFF-28E43D4FF8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42960" y="4500360"/>
            <a:ext cx="7858080" cy="1571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уководитель Региональной службы по надзору и контролю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сфере образования Ростовской обла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TextBox 4"/>
          <p:cNvSpPr/>
          <p:nvPr/>
        </p:nvSpPr>
        <p:spPr>
          <a:xfrm>
            <a:off x="1143000" y="3071880"/>
            <a:ext cx="70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лстик Надежд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Прямоугольник 5" descr=""/>
          <p:cNvPicPr/>
          <p:nvPr/>
        </p:nvPicPr>
        <p:blipFill>
          <a:blip r:embed="rId1"/>
          <a:stretch/>
        </p:blipFill>
        <p:spPr>
          <a:xfrm>
            <a:off x="396720" y="858960"/>
            <a:ext cx="86979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1" descr=""/>
          <p:cNvPicPr/>
          <p:nvPr/>
        </p:nvPicPr>
        <p:blipFill>
          <a:blip r:embed="rId1"/>
          <a:stretch/>
        </p:blipFill>
        <p:spPr>
          <a:xfrm>
            <a:off x="571680" y="285840"/>
            <a:ext cx="3143160" cy="25477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642960" y="2786040"/>
            <a:ext cx="80438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35520" indent="-33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истема контроля и надзора в образовании должна быть нацелена на защиту прав и интересов граждан прежде всего. На то, чтобы оградить их от возможных рисков и некачественных услу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520" indent="-335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. В. Путин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520" indent="-33552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5520" indent="-335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овещание по вопросу совершенствования контрольно-надзорных и разрешительных функций и оптимизации предоставления государственных услуг в сфере образования. 01.02.2010г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F6CB-4545-4F5B-9811-98C029535000}" type="slidenum"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B03C-6D83-4CBB-8A83-CC5423E3A78D}" type="slidenum">
              <a:rPr b="0" lang="ru-RU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1"/>
          <p:cNvSpPr/>
          <p:nvPr/>
        </p:nvSpPr>
        <p:spPr>
          <a:xfrm>
            <a:off x="714240" y="357120"/>
            <a:ext cx="7786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Благодарю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2000160" y="1285920"/>
            <a:ext cx="5214960" cy="4300560"/>
          </a:xfrm>
          <a:prstGeom prst="rect">
            <a:avLst/>
          </a:prstGeom>
          <a:ln w="0">
            <a:noFill/>
          </a:ln>
        </p:spPr>
      </p:pic>
      <p:pic>
        <p:nvPicPr>
          <p:cNvPr id="564" name="Прямоугольник 5" descr=""/>
          <p:cNvPicPr/>
          <p:nvPr/>
        </p:nvPicPr>
        <p:blipFill>
          <a:blip r:embed="rId2"/>
          <a:stretch/>
        </p:blipFill>
        <p:spPr>
          <a:xfrm>
            <a:off x="706320" y="5657760"/>
            <a:ext cx="7645680" cy="12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CF07-71E6-40CC-B813-76EF1CD22E61}" type="slidenum"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"/>
          <p:cNvSpPr/>
          <p:nvPr/>
        </p:nvSpPr>
        <p:spPr>
          <a:xfrm>
            <a:off x="714240" y="9288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еречень полномочий РФ в области образования, переданных Ростобрнадзор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лицензирование образо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государственная аккредитация образовательных учреж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одтверждение документов государственного образца об образовании, об ученых степенях и ученых зва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федеральный государственный надзор в области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федеральный государственный контроль качества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2471-0576-4E9E-812D-60C3BBDBA005}" type="slidenum"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Блок-схема: альтернативный процесс 5"/>
          <p:cNvSpPr/>
          <p:nvPr/>
        </p:nvSpPr>
        <p:spPr>
          <a:xfrm>
            <a:off x="642960" y="4857840"/>
            <a:ext cx="8072280" cy="1500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нутренний контроль за исполнением административных реглам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еестр лиценз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еестр свидетельств о государственной аккреди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Федеральная база данных «Типовая региональная система» (ТР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Группа 11"/>
          <p:cNvGrpSpPr/>
          <p:nvPr/>
        </p:nvGrpSpPr>
        <p:grpSpPr>
          <a:xfrm>
            <a:off x="1246320" y="3071880"/>
            <a:ext cx="6651360" cy="1332000"/>
            <a:chOff x="1246320" y="3071880"/>
            <a:chExt cx="6651360" cy="1332000"/>
          </a:xfrm>
        </p:grpSpPr>
        <p:sp>
          <p:nvSpPr>
            <p:cNvPr id="520" name="Блок-схема: процесс 12"/>
            <p:cNvSpPr/>
            <p:nvPr/>
          </p:nvSpPr>
          <p:spPr>
            <a:xfrm>
              <a:off x="1246320" y="3071880"/>
              <a:ext cx="6651360" cy="1332000"/>
            </a:xfrm>
            <a:prstGeom prst="flowChartProcess">
              <a:avLst/>
            </a:prstGeom>
            <a:solidFill>
              <a:srgbClr val="f94c0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Блок-схема: процесс 4"/>
            <p:cNvSpPr/>
            <p:nvPr/>
          </p:nvSpPr>
          <p:spPr>
            <a:xfrm>
              <a:off x="1246320" y="3071880"/>
              <a:ext cx="6651360" cy="13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5640" rIns="35640" tIns="35640" bIns="3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Constantia"/>
                </a:rPr>
                <a:t>Региональная информационная система «Реестр образовательных учреждений Ростовской области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Блок-схема: альтернативный процесс 14"/>
          <p:cNvSpPr/>
          <p:nvPr/>
        </p:nvSpPr>
        <p:spPr>
          <a:xfrm>
            <a:off x="357120" y="1143000"/>
            <a:ext cx="8501040" cy="15001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Заинтересованные юридические и физические ли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рганы налоговой служ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рганы прокура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УГИБДД ГУ МВ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истема межведомственного электронного взаимодействия (СМЭ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Группа 19"/>
          <p:cNvGrpSpPr/>
          <p:nvPr/>
        </p:nvGrpSpPr>
        <p:grpSpPr>
          <a:xfrm>
            <a:off x="3929040" y="2714040"/>
            <a:ext cx="846360" cy="359640"/>
            <a:chOff x="3929040" y="2714040"/>
            <a:chExt cx="846360" cy="359640"/>
          </a:xfrm>
        </p:grpSpPr>
        <p:sp>
          <p:nvSpPr>
            <p:cNvPr id="524" name="Стрелка вправо 20"/>
            <p:cNvSpPr/>
            <p:nvPr/>
          </p:nvSpPr>
          <p:spPr>
            <a:xfrm rot="16195800">
              <a:off x="4172760" y="2470680"/>
              <a:ext cx="358560" cy="846000"/>
            </a:xfrm>
            <a:prstGeom prst="rightArrow">
              <a:avLst>
                <a:gd name="adj1" fmla="val 60000"/>
                <a:gd name="adj2" fmla="val 28472"/>
              </a:avLst>
            </a:prstGeom>
            <a:solidFill>
              <a:srgbClr val="aab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Стрелка вправо 4"/>
            <p:cNvSpPr/>
            <p:nvPr/>
          </p:nvSpPr>
          <p:spPr>
            <a:xfrm rot="16195800">
              <a:off x="4204080" y="2662200"/>
              <a:ext cx="2966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Группа 37"/>
          <p:cNvGrpSpPr/>
          <p:nvPr/>
        </p:nvGrpSpPr>
        <p:grpSpPr>
          <a:xfrm>
            <a:off x="3928680" y="4428360"/>
            <a:ext cx="991080" cy="360000"/>
            <a:chOff x="3928680" y="4428360"/>
            <a:chExt cx="991080" cy="360000"/>
          </a:xfrm>
        </p:grpSpPr>
        <p:sp>
          <p:nvSpPr>
            <p:cNvPr id="527" name="Стрелка вправо 38"/>
            <p:cNvSpPr/>
            <p:nvPr/>
          </p:nvSpPr>
          <p:spPr>
            <a:xfrm rot="5395800">
              <a:off x="4244760" y="4113000"/>
              <a:ext cx="358920" cy="990720"/>
            </a:xfrm>
            <a:prstGeom prst="rightArrow">
              <a:avLst>
                <a:gd name="adj1" fmla="val 60000"/>
                <a:gd name="adj2" fmla="val 28472"/>
              </a:avLst>
            </a:prstGeom>
            <a:solidFill>
              <a:srgbClr val="aabb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Стрелка вправо 4"/>
            <p:cNvSpPr/>
            <p:nvPr/>
          </p:nvSpPr>
          <p:spPr>
            <a:xfrm rot="5395800">
              <a:off x="4275720" y="4280400"/>
              <a:ext cx="29700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488880"/>
                  <a:tab algn="l" pos="977760"/>
                  <a:tab algn="l" pos="1467000"/>
                  <a:tab algn="l" pos="1955880"/>
                  <a:tab algn="l" pos="2444760"/>
                  <a:tab algn="l" pos="2933640"/>
                  <a:tab algn="l" pos="3422520"/>
                  <a:tab algn="l" pos="3911760"/>
                  <a:tab algn="l" pos="4400640"/>
                  <a:tab algn="l" pos="4889520"/>
                  <a:tab algn="l" pos="5378400"/>
                  <a:tab algn="l" pos="5867280"/>
                  <a:tab algn="l" pos="6356520"/>
                  <a:tab algn="l" pos="6845400"/>
                  <a:tab algn="l" pos="7334280"/>
                  <a:tab algn="l" pos="7823160"/>
                  <a:tab algn="l" pos="8312040"/>
                  <a:tab algn="l" pos="8801280"/>
                  <a:tab algn="l" pos="9290160"/>
                  <a:tab algn="l" pos="9779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Box 1"/>
          <p:cNvSpPr/>
          <p:nvPr/>
        </p:nvSpPr>
        <p:spPr>
          <a:xfrm>
            <a:off x="214200" y="214200"/>
            <a:ext cx="878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правления использования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 региональной информацион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5A6F-3718-4D7C-96C1-012655C1C945}" type="slidenum"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"/>
          <p:cNvSpPr/>
          <p:nvPr/>
        </p:nvSpPr>
        <p:spPr>
          <a:xfrm>
            <a:off x="2071800" y="642960"/>
            <a:ext cx="5286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намика обращений на сайт Ростобр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Диаграмма 3" descr=""/>
          <p:cNvPicPr/>
          <p:nvPr/>
        </p:nvPicPr>
        <p:blipFill>
          <a:blip r:embed="rId1"/>
          <a:stretch/>
        </p:blipFill>
        <p:spPr>
          <a:xfrm>
            <a:off x="284040" y="1362240"/>
            <a:ext cx="8506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EBFE-8874-4DFC-A033-9CF26A4ABF22}" type="slidenum"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Диаграмма 2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7072200" cy="4500360"/>
          </a:xfrm>
          <a:prstGeom prst="rect">
            <a:avLst/>
          </a:prstGeom>
          <a:ln w="0">
            <a:noFill/>
          </a:ln>
        </p:spPr>
      </p:pic>
      <p:sp>
        <p:nvSpPr>
          <p:cNvPr id="535" name="TextBox 1"/>
          <p:cNvSpPr/>
          <p:nvPr/>
        </p:nvSpPr>
        <p:spPr>
          <a:xfrm>
            <a:off x="2071800" y="571680"/>
            <a:ext cx="5286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намика количества наложенных Ростобрнадз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дминистративных штрафов (2010-2011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6A9E-6DBC-45B6-9036-8816F30C4C5E}" type="slidenum"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Диаграмма 2" descr=""/>
          <p:cNvPicPr/>
          <p:nvPr/>
        </p:nvPicPr>
        <p:blipFill>
          <a:blip r:embed="rId1"/>
          <a:stretch/>
        </p:blipFill>
        <p:spPr>
          <a:xfrm>
            <a:off x="212760" y="1501920"/>
            <a:ext cx="8505720" cy="4924440"/>
          </a:xfrm>
          <a:prstGeom prst="rect">
            <a:avLst/>
          </a:prstGeom>
          <a:ln w="0">
            <a:noFill/>
          </a:ln>
        </p:spPr>
      </p:pic>
      <p:sp>
        <p:nvSpPr>
          <p:cNvPr id="538" name="TextBox 1"/>
          <p:cNvSpPr/>
          <p:nvPr/>
        </p:nvSpPr>
        <p:spPr>
          <a:xfrm>
            <a:off x="2071800" y="571680"/>
            <a:ext cx="528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инамика суммы наложенных административных штраф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2010-2011 гг.), тыс.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EAB4-253E-4415-B634-D6A82F50370C}" type="slidenum"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Диаграмма 2" descr=""/>
          <p:cNvPicPr/>
          <p:nvPr/>
        </p:nvPicPr>
        <p:blipFill>
          <a:blip r:embed="rId1"/>
          <a:stretch/>
        </p:blipFill>
        <p:spPr>
          <a:xfrm>
            <a:off x="284040" y="433440"/>
            <a:ext cx="8649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3706-2823-4B93-9A17-2F2AD03E9C93}" type="slidenum"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Диаграмма 2" descr=""/>
          <p:cNvPicPr/>
          <p:nvPr/>
        </p:nvPicPr>
        <p:blipFill>
          <a:blip r:embed="rId1"/>
          <a:stretch/>
        </p:blipFill>
        <p:spPr>
          <a:xfrm>
            <a:off x="284040" y="1362240"/>
            <a:ext cx="8506080" cy="5133960"/>
          </a:xfrm>
          <a:prstGeom prst="rect">
            <a:avLst/>
          </a:prstGeom>
          <a:ln w="0">
            <a:noFill/>
          </a:ln>
        </p:spPr>
      </p:pic>
      <p:sp>
        <p:nvSpPr>
          <p:cNvPr id="543" name="TextBox 1"/>
          <p:cNvSpPr/>
          <p:nvPr/>
        </p:nvSpPr>
        <p:spPr>
          <a:xfrm>
            <a:off x="571680" y="214200"/>
            <a:ext cx="807228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ониторинг образовательных учрежд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уществляющих образовательную деятельность без лиценз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2010-2011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51B3-543A-4564-9756-D0FA9252B056}" type="slidenum">
              <a:rPr b="0" lang="en-US" sz="24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1244520"/>
                <a:tab algn="l" pos="2489040"/>
                <a:tab algn="l" pos="3733920"/>
                <a:tab algn="l" pos="4978440"/>
                <a:tab algn="l" pos="6222960"/>
                <a:tab algn="l" pos="7467480"/>
                <a:tab algn="l" pos="8712360"/>
                <a:tab algn="l" pos="9956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Система «одного окна» при приеме документ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от соискателе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546" name="Object 7"/>
          <p:cNvGraphicFramePr/>
          <p:nvPr/>
        </p:nvGraphicFramePr>
        <p:xfrm>
          <a:off x="1303200" y="1579680"/>
          <a:ext cx="7077240" cy="45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579680"/>
                    <a:ext cx="7077240" cy="45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Стрелка вправо 13"/>
          <p:cNvSpPr/>
          <p:nvPr/>
        </p:nvSpPr>
        <p:spPr>
          <a:xfrm>
            <a:off x="3214800" y="328608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Двойная стрелка влево/вправо 14"/>
          <p:cNvSpPr/>
          <p:nvPr/>
        </p:nvSpPr>
        <p:spPr>
          <a:xfrm>
            <a:off x="5429160" y="2928960"/>
            <a:ext cx="571680" cy="4287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Двойная стрелка влево/вправо 15"/>
          <p:cNvSpPr/>
          <p:nvPr/>
        </p:nvSpPr>
        <p:spPr>
          <a:xfrm>
            <a:off x="5429160" y="3929040"/>
            <a:ext cx="571680" cy="42876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трелка вправо 16"/>
          <p:cNvSpPr/>
          <p:nvPr/>
        </p:nvSpPr>
        <p:spPr>
          <a:xfrm>
            <a:off x="2143080" y="307188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Стрелка вправо 17"/>
          <p:cNvSpPr/>
          <p:nvPr/>
        </p:nvSpPr>
        <p:spPr>
          <a:xfrm rot="10800000">
            <a:off x="2142720" y="3571560"/>
            <a:ext cx="500040" cy="42876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9"/>
          <p:cNvSpPr/>
          <p:nvPr/>
        </p:nvSpPr>
        <p:spPr>
          <a:xfrm>
            <a:off x="1285920" y="4214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иска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0"/>
          <p:cNvSpPr/>
          <p:nvPr/>
        </p:nvSpPr>
        <p:spPr>
          <a:xfrm>
            <a:off x="2428920" y="414324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1"/>
          <p:cNvSpPr/>
          <p:nvPr/>
        </p:nvSpPr>
        <p:spPr>
          <a:xfrm>
            <a:off x="4357800" y="47149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2"/>
          <p:cNvSpPr/>
          <p:nvPr/>
        </p:nvSpPr>
        <p:spPr>
          <a:xfrm>
            <a:off x="6572160" y="32148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ри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18"/>
          <p:cNvSpPr/>
          <p:nvPr/>
        </p:nvSpPr>
        <p:spPr>
          <a:xfrm>
            <a:off x="6643800" y="578628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4:53:54Z</dcterms:created>
  <dc:creator>Glushchenko</dc:creator>
  <dc:description/>
  <dc:language>en-US</dc:language>
  <cp:lastModifiedBy>Глущенко Е.А.</cp:lastModifiedBy>
  <dcterms:modified xsi:type="dcterms:W3CDTF">2012-01-16T09:26:54Z</dcterms:modified>
  <cp:revision>254</cp:revision>
  <dc:subject/>
  <dc:title>Слайд 1</dc:title>
</cp:coreProperties>
</file>