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8A8-D286-450E-A491-5DE8AE8C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749-8138-4B3B-B244-63CA6065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870-2193-4CFE-BBC3-FB35745B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745-0820-487F-8FB1-644887CB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6CDA-632D-40CF-89E4-A2DAFB62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D342-28D6-4087-8C8C-C9A8541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9742-D6AC-44E7-9A26-81DF8F4B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C5AE-1FA3-4DE1-B6E4-03344EF9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18D1-AFF5-4E8E-990C-6C46879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C40F-147C-4F14-816B-D56DC43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AD5E-A21C-41E9-85B0-8184560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2EB-B37E-4F6A-841B-0908C66C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B012-2487-4327-9DC8-A375561F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2331-16B3-424A-9343-605A3F0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3636-2FD1-49AA-8192-D3889A1C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3344-02C3-4DE5-BC6B-B415393D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AEA-38A7-42DC-8C45-56154612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F28-46F8-454E-9BEF-B4703965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0D6-9B10-4C32-906D-CD9BEABC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7AD-3117-4086-9208-D62BDBA4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6DC-2E04-417F-ACE5-BA16AE64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895-A738-4B85-AFA0-9CB1BEF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CDA-B170-4F21-BBC2-26D83D2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79C-0672-402D-BD70-9FB611CA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B0D9-488B-4270-AC30-2B817061C5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23F6-1078-4040-A2A0-1BDF9C5AF9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rostobrnadzor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42960" y="71280"/>
            <a:ext cx="1143000" cy="1071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643040" y="70920"/>
            <a:ext cx="75009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Региональная  служба по надзору и контролю  в сфере образования Ростовской обл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(Ростобрнадзор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214280" y="18572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ОТДЕЛ КОНТРОЛЯ КАЧЕСТВА ОБРАЗОВАНИЯ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85880" y="43675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ЕБТОВА ОКТЯБРИНА ХАЗРЕТОВ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ик отдела контроля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уля К.К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й специалист отде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лексеева М.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щий специалист отдел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дрякова Л.И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щий специалист отдел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убокая И.Д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щий специалист отде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0"/>
          <p:cNvSpPr/>
          <p:nvPr/>
        </p:nvSpPr>
        <p:spPr>
          <a:xfrm>
            <a:off x="928800" y="1571760"/>
            <a:ext cx="7848360" cy="79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РАЗОВАТЕЛЬНЫХ УЧРЕЖДЕНИ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826920" y="2637000"/>
            <a:ext cx="3673800" cy="107928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ИЕ УЧРЕДИТЕЛЬ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ОВ НОРМАТИВ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ВЫМ АКТ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826920" y="3933720"/>
            <a:ext cx="3673800" cy="107964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ОНИРО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ЕЙ СИСТЕМ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И КАЧЕСТВ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826920" y="5300640"/>
            <a:ext cx="3673800" cy="115272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И РЕАЛИЗ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РОПРИЯТИЙ ПО ПОВЫШЕ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14960" y="2357280"/>
            <a:ext cx="3456000" cy="435780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4357800"/>
              <a:gd name="textAreaBottom" fmla="*/ 4189320 h 435780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bdddd"/>
              </a:gs>
              <a:gs pos="50000">
                <a:srgbClr val="99cccc">
                  <a:alpha val="88235"/>
                </a:srgbClr>
              </a:gs>
              <a:gs pos="100000">
                <a:srgbClr val="bb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В О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ЦЕНЗИЯ НА ПРА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ЕНИ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ТЕЛЬ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ИДЕТЕЛЬСТВО 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АККРЕДИ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ЬНЫЕ АКТЫ О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РЯДИТЕЛЬН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БЛИОТЕЧ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ОННЫЕ РЕСУРС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ЙТ ОУ В СЕТИ ИНТЕРН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58"/>
          <p:cNvSpPr/>
          <p:nvPr/>
        </p:nvSpPr>
        <p:spPr>
          <a:xfrm>
            <a:off x="4500720" y="3068640"/>
            <a:ext cx="718920" cy="1079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58"/>
          <p:cNvSpPr/>
          <p:nvPr/>
        </p:nvSpPr>
        <p:spPr>
          <a:xfrm>
            <a:off x="4500720" y="4437000"/>
            <a:ext cx="7189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58"/>
          <p:cNvSpPr/>
          <p:nvPr/>
        </p:nvSpPr>
        <p:spPr>
          <a:xfrm flipV="1">
            <a:off x="4500720" y="4724280"/>
            <a:ext cx="718920" cy="115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58"/>
          <p:cNvSpPr/>
          <p:nvPr/>
        </p:nvSpPr>
        <p:spPr>
          <a:xfrm>
            <a:off x="2843280" y="2349360"/>
            <a:ext cx="0" cy="28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313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ПЛАНОВАЯ ПРОВЕРКА КАЧЕСТВА ОБРАЗОВАН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532360" y="5872320"/>
            <a:ext cx="150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971640" y="2565360"/>
            <a:ext cx="3384360" cy="108288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000080" y="4071960"/>
            <a:ext cx="3384720" cy="107964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ТА РЕАЛИЗ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971640" y="5445000"/>
            <a:ext cx="3384360" cy="107964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КАЧЕ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 ФГ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5357880" y="2286000"/>
            <a:ext cx="3533760" cy="4383000"/>
          </a:xfrm>
          <a:custGeom>
            <a:avLst/>
            <a:gdLst>
              <a:gd name="textAreaLeft" fmla="*/ 172440 w 3533760"/>
              <a:gd name="textAreaRight" fmla="*/ 3361320 w 3533760"/>
              <a:gd name="textAreaTop" fmla="*/ 172440 h 4383000"/>
              <a:gd name="textAreaBottom" fmla="*/ 4210560 h 4383000"/>
            </a:gdLst>
            <a:ahLst/>
            <a:rect l="textAreaLeft" t="textAreaTop" r="textAreaRight" b="textAreaBottom"/>
            <a:pathLst>
              <a:path w="21600" h="26790">
                <a:moveTo>
                  <a:pt x="3600" y="0"/>
                </a:moveTo>
                <a:arcTo wR="3600" hR="3600" stAng="16200000" swAng="-5400000"/>
                <a:lnTo>
                  <a:pt x="0" y="23190"/>
                </a:lnTo>
                <a:arcTo wR="3600" hR="3600" stAng="10800000" swAng="-5400000"/>
                <a:lnTo>
                  <a:pt x="18000" y="267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АЯ(Ы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АЯ (Ы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О-МЕТОДИЧЕСК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ИСАНИЕ УЧЕБ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АССНЫЕ ЖУРНА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СПЕРТИЗА КАЧЕСТВ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ВОЕНИЯ ОБУЧАЮЩИМИ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Х ПРОГРАМ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971640" y="1628640"/>
            <a:ext cx="7848360" cy="57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ЕАЛИЗАЦИЯ ОСНОВНЫХ ОБРАЗОВАТЕЛЬНЫХ ПРОГРАММ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РАЗОВАТЕЛЬНЫХ УЧРЕЖДЕН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14280" y="189000"/>
            <a:ext cx="7647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ПЛАНОВАЯ ПРОВЕРКА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58"/>
          <p:cNvSpPr/>
          <p:nvPr/>
        </p:nvSpPr>
        <p:spPr>
          <a:xfrm>
            <a:off x="4356000" y="2997360"/>
            <a:ext cx="107964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58"/>
          <p:cNvSpPr/>
          <p:nvPr/>
        </p:nvSpPr>
        <p:spPr>
          <a:xfrm>
            <a:off x="4356000" y="458136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4356000" y="5084640"/>
            <a:ext cx="1079640" cy="865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58"/>
          <p:cNvSpPr/>
          <p:nvPr/>
        </p:nvSpPr>
        <p:spPr>
          <a:xfrm>
            <a:off x="2771640" y="220500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532360" y="5872320"/>
            <a:ext cx="150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971640" y="2349360"/>
            <a:ext cx="3384360" cy="79236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ДЕНИЯ О РЕЗУЛЬТАТА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Э, Г(И)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971640" y="3213000"/>
            <a:ext cx="3384360" cy="79236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ИТОРИНГ ИССЛЕД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ТИЖЕНИЙ ОБУЧАЮЩИХ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ЕГИОНАЛЬНЫЙ УРОВЕН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5435640" y="2205000"/>
            <a:ext cx="3384360" cy="4537080"/>
          </a:xfrm>
          <a:custGeom>
            <a:avLst/>
            <a:gdLst>
              <a:gd name="textAreaLeft" fmla="*/ 164880 w 3384360"/>
              <a:gd name="textAreaRight" fmla="*/ 3219480 w 3384360"/>
              <a:gd name="textAreaTop" fmla="*/ 164880 h 4537080"/>
              <a:gd name="textAreaBottom" fmla="*/ 4372200 h 4537080"/>
            </a:gdLst>
            <a:ahLst/>
            <a:rect l="textAreaLeft" t="textAreaTop" r="textAreaRight" b="textAreaBottom"/>
            <a:pathLst>
              <a:path w="21600" h="28956">
                <a:moveTo>
                  <a:pt x="3600" y="0"/>
                </a:moveTo>
                <a:arcTo wR="3600" hR="3600" stAng="16200000" swAng="-5400000"/>
                <a:lnTo>
                  <a:pt x="0" y="25356"/>
                </a:lnTo>
                <a:arcTo wR="3600" hR="3600" stAng="10800000" swAng="-5400000"/>
                <a:lnTo>
                  <a:pt x="18000" y="289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ДНЫЕ ВЕДОМ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Ы ПРОВЕ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ЗАМЕН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Е ЖУРНАЛ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Е МЕНЕЕ 50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ЮЩИХС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971640" y="1557360"/>
            <a:ext cx="7848360" cy="57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РЕЗУЛЬТАТИВНОСТЬ ОБРАЗОВАТЕЛЬНОГО ПРОЦЕСС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РАЗОВАТЕЛЬНЫХ УЧРЕЖДЕН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857160" y="189000"/>
            <a:ext cx="80042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ЛАНОВАЯ ПРОВЕРКА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1000080" y="4071960"/>
            <a:ext cx="3384720" cy="79200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ТОГИ ПРОМЕЖУТОЧ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ТТЕСТАЦИИ О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971640" y="4941720"/>
            <a:ext cx="3384360" cy="79236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ТОГИ ТЕКУЩЕГО КОНТРО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928800" y="5786280"/>
            <a:ext cx="3384360" cy="792360"/>
          </a:xfrm>
          <a:prstGeom prst="roundRect">
            <a:avLst>
              <a:gd name="adj" fmla="val 16667"/>
            </a:avLst>
          </a:prstGeom>
          <a:solidFill>
            <a:srgbClr val="99ccc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спертиза качеств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воения обучающимис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разовательных програм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58"/>
          <p:cNvSpPr/>
          <p:nvPr/>
        </p:nvSpPr>
        <p:spPr>
          <a:xfrm>
            <a:off x="4356000" y="2708280"/>
            <a:ext cx="1079640" cy="100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58"/>
          <p:cNvSpPr/>
          <p:nvPr/>
        </p:nvSpPr>
        <p:spPr>
          <a:xfrm>
            <a:off x="2700360" y="2133720"/>
            <a:ext cx="0" cy="214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58"/>
          <p:cNvSpPr/>
          <p:nvPr/>
        </p:nvSpPr>
        <p:spPr>
          <a:xfrm>
            <a:off x="4356000" y="44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58"/>
          <p:cNvSpPr/>
          <p:nvPr/>
        </p:nvSpPr>
        <p:spPr>
          <a:xfrm flipV="1">
            <a:off x="4356000" y="4797360"/>
            <a:ext cx="107964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58"/>
          <p:cNvSpPr/>
          <p:nvPr/>
        </p:nvSpPr>
        <p:spPr>
          <a:xfrm>
            <a:off x="4356000" y="3573360"/>
            <a:ext cx="1079640" cy="50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58"/>
          <p:cNvSpPr/>
          <p:nvPr/>
        </p:nvSpPr>
        <p:spPr>
          <a:xfrm flipV="1">
            <a:off x="4356000" y="5229360"/>
            <a:ext cx="1079640" cy="79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714240" y="289440"/>
            <a:ext cx="8429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ТИПИЧНЫЕ НАРУ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(ОРГАНИЗАЦИЯ ОБРАЗОВАТЕЛЬНОГО ПРОЦЕСС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11280" y="1700280"/>
            <a:ext cx="8281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дение образовательной деятельности без соответствующей лицензии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II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д, дополнительное образование дете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соответствие норм, установленных Уставом и локальными актами образовательного учреждения по вопросам организации образовательного процесса (промежуточная аттестация, система оценивания, регламент работы ОУ 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сутствие в образовательном учреждений  распорядительных документов, обеспечивающих  исполнение ст. 32 Закона РФ «Об образовании», в части  принятия основной образовательной программы, учебного плана, программ, учебных планов, утверждения перечня используемых учебников на текущий учебный го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рганизация образовательного процесса по расписанию, отличающемуся от утвержденного руководителем ОУ и согласованного с Роспотребнадзор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ая в ряде школ материально-техническая база, библиотечно-информационные ресурсы для освоения обучающимися ФГОС в полном объем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льшинство официальных сайтов образовательных учреждений в сети Интернет не соответствуют нормативным требованиям (пп.2, 4 ст. 3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SzPct val="200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ТИПИЧНЫЕ НАРУШЕНИЯ </a:t>
            </a:r>
            <a:br>
              <a:rPr sz="3200"/>
            </a:b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(СОДЕРЖАНИЕ ОБРАЗОВАНИЯ)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000080" y="1714680"/>
            <a:ext cx="7643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формировании (конструировании) учебных планов не учитываются варианты  ФГ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беспечена реализация инвариантной части Базисного учебного плана (обществознание, МХК, технология, иностранный язы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не в полном объеме основных общеобразовательных программ в соответствии с учебным планом 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содержания учебных планов и программ  виду образовательного учреждения (гимназия, лице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содержания учебных планов и программ профилю кла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предпрофильной и профильной подготовки обучаю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блюдение принципов преемственности учебных программ и учебни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714240" y="361080"/>
            <a:ext cx="8321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ТИПИЧНЫЕ НАРУ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(РЕЗУЛЬТАТИВН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714240" y="2214720"/>
            <a:ext cx="82090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сутствие  в ОУ системы внутреннего мониторинга качества образования (пп. 24 п. 2 ст32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достаточный контроль администрации образовательных учреждений за реализацией педагогами ОУ рабочих программ, в т.ч. практической ча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ъективное оценивание педагогами ОУ уровня освоения обучающимися и выпускниками общеобразовательных программ, особенно в вечерних (сменных) школах и сельских отдаленных школах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освоение обучающимися Федерального государственного стандарта по ряду общеобразовательных предмето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6666"/>
                </a:solidFill>
                <a:latin typeface="Arial"/>
              </a:rPr>
              <a:t>Результативность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5880" y="171432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в структуре В(С)ОШ  многочисленных УКП, расположенных по всей территории муниципалит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очная материально-технической базы для организации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ая часть контингента обучающихся в вечерних (сменных) общеобразовательных школах являются детьми из семей беженцев, переселенцев, социально не благополуч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ельная доля учителей В(С)ОШ  являются  совместител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 контроля со стороны учредителей за деятельностью проверенных образовательных учрежд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эффективная система контроля администрации школ за деятельностью педагогов,  т.е.  контрольные функции администрации  сведены к  решению текущих вопро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Пути совершенствования исполнения государственной функции по осуществлению контроля качества образования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28440" y="1714320"/>
            <a:ext cx="807228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федеральной и региональной нормативной, инструктивной и методической базы, сопровождающей проведение государственного контроля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 норматива по охвату числа проверенных образовательных учреждений в 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современных информационных технологий при проведен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экспертизы качества освоения обучающимися федеральных государственных образовательных стандартов (on-l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стирование обучающихс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обработке и систематизации результатов государственного контроля качества образ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аналитических и информационных  материалов  по итогам проведенных проверок, направленных на более полное освоение обучающимися и выпускниками Ростовской области федеральных государственных образовательных стандар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UpRibbonSharp"/>
          <p:cNvSpPr/>
          <p:nvPr/>
        </p:nvSpPr>
        <p:spPr>
          <a:xfrm>
            <a:off x="0" y="1785960"/>
            <a:ext cx="9144000" cy="4897440"/>
          </a:xfrm>
          <a:prstGeom prst="pie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835280" y="2914560"/>
            <a:ext cx="5327640" cy="27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./фак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дела контроля качества образова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8-638) 300-33-3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.rostobrnadzor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1@rostobrnadzor.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928800" y="857160"/>
            <a:ext cx="7943760" cy="50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4000"/>
                  </a:srgbClr>
                </a:solidFill>
                <a:latin typeface="Arial"/>
              </a:rPr>
              <a:t>Спасибо за внимание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4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6666"/>
                </a:solidFill>
                <a:latin typeface="Arial"/>
              </a:rPr>
              <a:t>Задачи отдела 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28440" y="1571400"/>
            <a:ext cx="7754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 проведении плановых и внеплановых проверок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соответствия содержания и (или) качества подготовки обучающихся и выпускников организаций требованиям федеральных государственных образовательных стандартов или федеральным государственным требования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рганизациями предписаний Ростобрнадзора о приведении содержания и (или) качества подготовки обучающихся и выпускников в соответствие с требованиями федеральных государственных образовательных стандартов или федеральными государственными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140360" y="260280"/>
            <a:ext cx="47210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28440" y="1746360"/>
            <a:ext cx="7964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е учреждения (за исключением ОУ, отнесенных к компетенции Российской Федерации) –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2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 для детей дошкольного и младшего школьного возраста (в части реализуемых общеобразовательных программ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е и муниципальные обще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ние(сменные) общеобразовательные учрежд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е школы-интерна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етские школы (кадетские школы-интерна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воровские военные и кадетские корпу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е школы-интернаты с первоначальной летной подготовк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 НП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-178560" algn="just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70000"/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 СП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000080" y="194040"/>
            <a:ext cx="789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Перечень объектов  государственного контроля качества образования 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Ростовской  обл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66"/>
                </a:solidFill>
                <a:latin typeface="Arial"/>
              </a:rPr>
              <a:t>Нормативная баз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71720" y="1643040"/>
            <a:ext cx="7929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Российской Федерации от 10.07.1992 № 3266-1 «Об образовании»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пп. 2 п.1 ст. 28.1, п. 2 ст. 3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еральный закон от 26.12.2008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т. ст. 9, 1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Правительства Российской Федерации от 11.03.2011 № 164 «Об осуществлении государственного контроля (надзора) в сфере образования»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п. 3, 5, 6, 8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и федеральные треб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ожение о Региональной службе по надзору и контролю в сфере образования Ростовской области, утвержденное  Постановлением Администрации Ростовской области от 16.04.2009 № 18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142920"/>
            <a:ext cx="7313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Государственный стандарт общего образов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85880" y="1827360"/>
            <a:ext cx="789768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сударственный стандарт обще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рмы и требования, определяющие обязательный миниму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ных образовательных программ общего образова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сималь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ем учебной нагрузки обучающихс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подготов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ускников образовательных учреждений, а также основ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бования к обеспечени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ого процесса (в том числе к его материально-техническому, учебно-лабораторному, информационно-методическому, кадровому обеспечению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 к обеспечению образовательного процесса устанавливаются в порядке, определяемом Правительством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42960" y="213840"/>
            <a:ext cx="80755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Перечень основных мероприятий при осуществлении госконтрол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0" y="1066320"/>
            <a:ext cx="8675280" cy="5311440"/>
            <a:chOff x="0" y="1066320"/>
            <a:chExt cx="8675280" cy="5311440"/>
          </a:xfrm>
        </p:grpSpPr>
        <p:sp>
          <p:nvSpPr>
            <p:cNvPr id="109" name="Freeform 4"/>
            <p:cNvSpPr/>
            <p:nvPr/>
          </p:nvSpPr>
          <p:spPr>
            <a:xfrm rot="20805000">
              <a:off x="4901400" y="2842920"/>
              <a:ext cx="1168560" cy="3432240"/>
            </a:xfrm>
            <a:prstGeom prst="pie">
              <a:avLst/>
            </a:prstGeom>
            <a:solidFill>
              <a:srgbClr val="ffcc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 rot="5461200">
              <a:off x="3067560" y="2411280"/>
              <a:ext cx="1190880" cy="336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a684c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Freeform 6"/>
            <p:cNvSpPr/>
            <p:nvPr/>
          </p:nvSpPr>
          <p:spPr>
            <a:xfrm rot="14128200">
              <a:off x="4947120" y="826920"/>
              <a:ext cx="1190880" cy="336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2" name="Group 7"/>
            <p:cNvGrpSpPr/>
            <p:nvPr/>
          </p:nvGrpSpPr>
          <p:grpSpPr>
            <a:xfrm>
              <a:off x="1884600" y="1582920"/>
              <a:ext cx="5573160" cy="4794840"/>
              <a:chOff x="1884600" y="1582920"/>
              <a:chExt cx="5573160" cy="4794840"/>
            </a:xfrm>
          </p:grpSpPr>
          <p:sp>
            <p:nvSpPr>
              <p:cNvPr id="113" name="Freeform 8"/>
              <p:cNvSpPr/>
              <p:nvPr/>
            </p:nvSpPr>
            <p:spPr>
              <a:xfrm>
                <a:off x="4700520" y="2945880"/>
                <a:ext cx="1168560" cy="3431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 rot="6256200">
                <a:off x="3067920" y="2252520"/>
                <a:ext cx="1190520" cy="3368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 rot="14922600">
                <a:off x="5076720" y="1064520"/>
                <a:ext cx="1190520" cy="336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fdbdf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6" name="Group 11"/>
            <p:cNvGrpSpPr/>
            <p:nvPr/>
          </p:nvGrpSpPr>
          <p:grpSpPr>
            <a:xfrm>
              <a:off x="4182120" y="2908440"/>
              <a:ext cx="1360800" cy="1384920"/>
              <a:chOff x="4182120" y="2908440"/>
              <a:chExt cx="1360800" cy="1384920"/>
            </a:xfrm>
          </p:grpSpPr>
          <p:sp>
            <p:nvSpPr>
              <p:cNvPr id="117" name="Oval 12"/>
              <p:cNvSpPr/>
              <p:nvPr/>
            </p:nvSpPr>
            <p:spPr>
              <a:xfrm>
                <a:off x="4182120" y="2908440"/>
                <a:ext cx="1360800" cy="13849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4337640" y="2931120"/>
                <a:ext cx="1049760" cy="52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Text Box 14"/>
            <p:cNvSpPr/>
            <p:nvPr/>
          </p:nvSpPr>
          <p:spPr>
            <a:xfrm>
              <a:off x="4765680" y="341604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799560" y="2456280"/>
              <a:ext cx="3268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5476680" y="2247840"/>
              <a:ext cx="3198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0" y="4914360"/>
              <a:ext cx="56217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3" name="Text Box 23"/>
          <p:cNvSpPr/>
          <p:nvPr/>
        </p:nvSpPr>
        <p:spPr>
          <a:xfrm>
            <a:off x="684360" y="1700280"/>
            <a:ext cx="3527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Анализ и экспертиза документов и материалов, характеризующих деятельность организации, средств обеспечения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500800" y="1643040"/>
            <a:ext cx="35002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использования в образовательном процессе объектов (зданий, сооружений, помещений), учебно-методической документации, учебной литературы и иных библиотечно-информационных ресурс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642960" y="4857840"/>
            <a:ext cx="364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Экспертиза  качества освоения обучающимися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5857920" y="4143240"/>
            <a:ext cx="2890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Анализ результатов текущего контроля успеваемости и промежуточной аттестации обучающихся, итоговой аттестации выпускник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71720" y="2214360"/>
            <a:ext cx="754056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проверок (плановые проверки ОУ 1 раз в три год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государственной (итоговой) аттестации выпускников 9,11(12) классов, в т.ч. в новой форме (9 класс) и ЕГ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аккредитационных эксперт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плановые провер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57200" y="142920"/>
            <a:ext cx="73137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Формирование содержания и объема работы отдела   контроля качества образов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3000" y="157140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ча предписания сроком исполнения до 6 месяце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становка действия свидетельства о государственного аккредитации сроком до 6 месяце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ение образовательного учреждения свидетельства о государственной аккреди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тивные действия в рамках исполнения государственной функции, т.е. составление протоколов о совершении  юридическими и должностными лицами административных правонарушений   (части 2,3 ст. 19.20, ст. 19.30 КоАП РФ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ие информации учредителю проверенного образовательного учрежд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ление в ходе проверки качества образования  несоблюдения ОУ   предусмотренных лицензией условий и (или) нарушения законодательства Российской Федерации в области образования - осуществление   административных действий,  предусмотренных законодатель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301320"/>
            <a:ext cx="86439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Перечень мер, принимаемых Ростобрнадзором, по итогам установленных нарушений в части исполнения образовательными учреждениями ФГОС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7313760" cy="13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Итоги работы отдела  </a:t>
            </a:r>
            <a:br>
              <a:rPr sz="3600"/>
            </a:b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 (2010 – 2011гг.)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00080" y="1928880"/>
          <a:ext cx="7929720" cy="4694040"/>
        </p:xfrm>
        <a:graphic>
          <a:graphicData uri="http://schemas.openxmlformats.org/drawingml/2006/table">
            <a:tbl>
              <a:tblPr/>
              <a:tblGrid>
                <a:gridCol w="3471840"/>
                <a:gridCol w="2168640"/>
                <a:gridCol w="2289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месяце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о проверок О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о тестир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70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21 т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2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 те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о наруш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но предпис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 (88,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(9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о протоко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ы письм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авоохранительные орг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дителям О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штраф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 тыс.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lain" startAt="1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05:13:28Z</dcterms:created>
  <dc:creator>user</dc:creator>
  <dc:description/>
  <dc:language>en-US</dc:language>
  <cp:lastModifiedBy>Hrebtova</cp:lastModifiedBy>
  <dcterms:modified xsi:type="dcterms:W3CDTF">2011-06-08T05:40:56Z</dcterms:modified>
  <cp:revision>125</cp:revision>
  <dc:subject/>
  <dc:title>Слайд 1</dc:title>
</cp:coreProperties>
</file>